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F04F-0DB1-449C-886B-55BBFA05B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4A6A-3ABE-4BEA-81F8-329231C22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D09E-9078-4721-97EC-50EAE0165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AA0D-0980-43AD-BC29-BA7A1AD32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5A9F-EB18-40C5-BA0A-E8E9618E0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3903-B47C-4B98-A0E0-827173BDD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F6B9-D571-4DE4-B450-29C9E076A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4098-2589-4873-B302-E3B1A6E0F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0F15-69FE-49AB-BDB3-687C5D383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D2C0-297C-4E1F-B5FD-D29FD6CD3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7EDE-9443-44FC-A7EE-86FF5FD3C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FC06-4FE1-404A-A27B-B4CEF7624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DCEA9-A035-4CE5-939C-1A0DF6DC94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355760"/>
            <a:ext cx="7772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NEURAL NETWORKS</a:t>
            </a:r>
            <a:br>
              <a:rPr sz="7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ECTUR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4495680"/>
            <a:ext cx="419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 Zoran Ševa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vara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90640" y="63961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N,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neural networ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 processing without predefined model or algorithm. Only based on data about behaviour of s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efficent in solving complex problems hard to solve by using algorithm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Biological and artificial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asic parts: body(soma), dendrite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ax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utpu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synap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ne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3235320"/>
            <a:ext cx="4876920" cy="2925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133800" cy="176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Artificial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680160" cy="2946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5370480"/>
            <a:ext cx="77724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put = 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…+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SUPERVISED LEA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2240" y="1712880"/>
            <a:ext cx="74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asic principle: iterative error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098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09480" y="5486400"/>
                <a:ext cx="7848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+μ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6781680" y="2666880"/>
            <a:ext cx="7621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endCxn id="81" idx="1"/>
          </p:cNvCxnSpPr>
          <p:nvPr/>
        </p:nvCxnSpPr>
        <p:spPr>
          <a:xfrm>
            <a:off x="990720" y="4114800"/>
            <a:ext cx="137232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endCxn id="79" idx="2"/>
          </p:cNvCxnSpPr>
          <p:nvPr/>
        </p:nvCxnSpPr>
        <p:spPr>
          <a:xfrm>
            <a:off x="1066320" y="2971800"/>
            <a:ext cx="571572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1" idx="3"/>
            <a:endCxn id="79" idx="4"/>
          </p:cNvCxnSpPr>
          <p:nvPr/>
        </p:nvCxnSpPr>
        <p:spPr>
          <a:xfrm flipV="1">
            <a:off x="4571640" y="3351960"/>
            <a:ext cx="2591640" cy="801000"/>
          </a:xfrm>
          <a:prstGeom prst="bentConnector3">
            <a:avLst>
              <a:gd name="adj1" fmla="val 50000"/>
            </a:avLst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9" idx="6"/>
          </p:cNvCxnSpPr>
          <p:nvPr/>
        </p:nvCxnSpPr>
        <p:spPr>
          <a:xfrm flipV="1" rot="10800000">
            <a:off x="4190400" y="3009600"/>
            <a:ext cx="3353400" cy="22485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85" name=""/>
          <p:cNvCxnSpPr/>
          <p:nvPr/>
        </p:nvCxnSpPr>
        <p:spPr>
          <a:xfrm>
            <a:off x="-1371600" y="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 flipH="1" flipV="1">
            <a:off x="607320" y="3123720"/>
            <a:ext cx="2134440" cy="1448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362320" y="3429000"/>
            <a:ext cx="2209680" cy="1447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657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5146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red output d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7680" y="36576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output y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34240" y="2590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86280" y="472428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(x) = d(x) – y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sic parts of artificial neu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summing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TRANSFER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1704960" cy="1343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1685880" cy="1324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486400" y="5029200"/>
            <a:ext cx="1676520" cy="1333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22480" y="2652840"/>
            <a:ext cx="18381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22480" y="2652840"/>
            <a:ext cx="13809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2480" y="2652840"/>
            <a:ext cx="18381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22480" y="2652840"/>
            <a:ext cx="13809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22480" y="2652840"/>
            <a:ext cx="18381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708200"/>
          <a:ext cx="7924680" cy="4191120"/>
        </p:xfrm>
        <a:graphic>
          <a:graphicData uri="http://schemas.openxmlformats.org/drawingml/2006/table">
            <a:tbl>
              <a:tblPr/>
              <a:tblGrid>
                <a:gridCol w="4048200"/>
                <a:gridCol w="3876480"/>
              </a:tblGrid>
              <a:tr h="1396800">
                <a:tc>
                  <a:txBody>
                    <a:bodyPr lIns="90000" rIns="90000" tIns="30096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009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30096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689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30096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mo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689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0" y="24382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cCulloch Pits Neur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shold Logic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8769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8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…+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1752480"/>
            <a:ext cx="4267440" cy="2819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1685880" cy="1324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0400" y="2590920"/>
            <a:ext cx="83808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1240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600200"/>
            <a:ext cx="228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62120" y="3346560"/>
            <a:ext cx="2361960" cy="11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362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38080" y="3193920"/>
            <a:ext cx="228600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1240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NEURAL 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01720" y="1736640"/>
            <a:ext cx="57960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Neural network training/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680" y="1920960"/>
            <a:ext cx="822960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Learning procedure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adjusting connection weights, until network gets desired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Supervi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ADA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nearna transf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combination of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 = 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…+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n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earning algorithm: Least Mean 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33000" y="1447920"/>
            <a:ext cx="5353200" cy="2598480"/>
            <a:chOff x="2133000" y="1447920"/>
            <a:chExt cx="5353200" cy="2598480"/>
          </a:xfrm>
        </p:grpSpPr>
        <p:sp>
          <p:nvSpPr>
            <p:cNvPr id="123" name=""/>
            <p:cNvSpPr/>
            <p:nvPr/>
          </p:nvSpPr>
          <p:spPr>
            <a:xfrm>
              <a:off x="3544920" y="1447920"/>
              <a:ext cx="774720" cy="25984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7240" y="1968480"/>
              <a:ext cx="774720" cy="15573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919680" y="1968480"/>
              <a:ext cx="1831680" cy="1606320"/>
              <a:chOff x="3919680" y="1968480"/>
              <a:chExt cx="1831680" cy="1606320"/>
            </a:xfrm>
          </p:grpSpPr>
          <p:sp>
            <p:nvSpPr>
              <p:cNvPr id="126" name=""/>
              <p:cNvSpPr/>
              <p:nvPr/>
            </p:nvSpPr>
            <p:spPr>
              <a:xfrm flipV="1">
                <a:off x="3919680" y="2791440"/>
                <a:ext cx="1817640" cy="78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3720" y="2704320"/>
                <a:ext cx="181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64040" y="1968480"/>
                <a:ext cx="1557360" cy="51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675240" y="1665360"/>
              <a:ext cx="51408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5240" y="2446200"/>
              <a:ext cx="51408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5240" y="3227400"/>
              <a:ext cx="514080" cy="51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97560" y="2454120"/>
              <a:ext cx="51444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133000" y="1679400"/>
              <a:ext cx="1490400" cy="2026800"/>
              <a:chOff x="2133000" y="1679400"/>
              <a:chExt cx="1490400" cy="202680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2556720" y="1903320"/>
                <a:ext cx="1066680" cy="1595520"/>
                <a:chOff x="2556720" y="1903320"/>
                <a:chExt cx="1066680" cy="159552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2597400" y="1903320"/>
                  <a:ext cx="1026000" cy="793080"/>
                  <a:chOff x="2597400" y="1903320"/>
                  <a:chExt cx="1026000" cy="79308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flipH="1">
                    <a:off x="2597400" y="1903320"/>
                    <a:ext cx="1026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>
                    <a:off x="2597400" y="2696400"/>
                    <a:ext cx="1026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"/>
                <p:cNvSpPr/>
                <p:nvPr/>
              </p:nvSpPr>
              <p:spPr>
                <a:xfrm flipH="1">
                  <a:off x="2556720" y="3498840"/>
                  <a:ext cx="103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133000" y="1679400"/>
                <a:ext cx="422280" cy="2026800"/>
                <a:chOff x="2133000" y="1679400"/>
                <a:chExt cx="422280" cy="20268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133000" y="1679400"/>
                  <a:ext cx="4050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150280" y="2441520"/>
                  <a:ext cx="4050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50280" y="3265560"/>
                  <a:ext cx="4050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4599000" y="1766880"/>
              <a:ext cx="466560" cy="1431360"/>
              <a:chOff x="4599000" y="1766880"/>
              <a:chExt cx="466560" cy="1431360"/>
            </a:xfrm>
          </p:grpSpPr>
          <p:sp>
            <p:nvSpPr>
              <p:cNvPr id="144" name=""/>
              <p:cNvSpPr/>
              <p:nvPr/>
            </p:nvSpPr>
            <p:spPr>
              <a:xfrm>
                <a:off x="4599000" y="1766880"/>
                <a:ext cx="466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99000" y="2224080"/>
                <a:ext cx="466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599000" y="2757600"/>
                <a:ext cx="466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032520" y="2513160"/>
              <a:ext cx="1453680" cy="398880"/>
              <a:chOff x="6032520" y="2513160"/>
              <a:chExt cx="1453680" cy="39888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6032520" y="2728800"/>
                <a:ext cx="104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89920" y="2513160"/>
                <a:ext cx="29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rief introduction to neural networks concepts and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apabilities and possib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Neural Network Framework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cognize typical neural network problems and implement neural network base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ph framework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MS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85800" y="5410080"/>
                <a:ext cx="1760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p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85800" y="3733920"/>
                <a:ext cx="4114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+με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85800" y="1338120"/>
            <a:ext cx="80010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MS rul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1) output neuron error for pattern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d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y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3596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total network error for all patterns from training se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training stops when this error is below some predefined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004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weight change according to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PERCEPT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transfe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rceptron l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irst algorithm for learning nonlinea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nly for linear separabl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600200" y="1523880"/>
            <a:ext cx="5419800" cy="2556000"/>
            <a:chOff x="1600200" y="1523880"/>
            <a:chExt cx="5419800" cy="2556000"/>
          </a:xfrm>
        </p:grpSpPr>
        <p:sp>
          <p:nvSpPr>
            <p:cNvPr id="159" name=""/>
            <p:cNvSpPr/>
            <p:nvPr/>
          </p:nvSpPr>
          <p:spPr>
            <a:xfrm flipH="1">
              <a:off x="4923720" y="1523880"/>
              <a:ext cx="762120" cy="2556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600200" y="1738440"/>
              <a:ext cx="5419800" cy="2043000"/>
              <a:chOff x="1600200" y="1738440"/>
              <a:chExt cx="5419800" cy="204300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3118680" y="1779480"/>
                <a:ext cx="762120" cy="178776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3389040" y="2044800"/>
                <a:ext cx="1785960" cy="1529640"/>
                <a:chOff x="3389040" y="2044800"/>
                <a:chExt cx="1785960" cy="1529640"/>
              </a:xfrm>
            </p:grpSpPr>
            <p:sp>
              <p:nvSpPr>
                <p:cNvPr id="163" name=""/>
                <p:cNvSpPr/>
                <p:nvPr/>
              </p:nvSpPr>
              <p:spPr>
                <a:xfrm flipH="1">
                  <a:off x="3645720" y="2044800"/>
                  <a:ext cx="1528920" cy="248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3645720" y="2044800"/>
                  <a:ext cx="1528920" cy="101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3645720" y="3057840"/>
                  <a:ext cx="1528920" cy="516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3389040" y="2293200"/>
                  <a:ext cx="1785960" cy="12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3389040" y="2290320"/>
                  <a:ext cx="1785960" cy="516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3645720" y="2809080"/>
                  <a:ext cx="1528920" cy="24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 flipH="1">
                <a:off x="3246480" y="2036880"/>
                <a:ext cx="504720" cy="506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246480" y="2805120"/>
                <a:ext cx="504720" cy="50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5040360" y="1738440"/>
                <a:ext cx="504720" cy="50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5029200" y="2514600"/>
                <a:ext cx="504720" cy="50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040360" y="3274920"/>
                <a:ext cx="504720" cy="50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1600200" y="2057400"/>
                <a:ext cx="1441440" cy="1200960"/>
                <a:chOff x="1600200" y="2057400"/>
                <a:chExt cx="1441440" cy="120096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2022480" y="2292480"/>
                  <a:ext cx="1019160" cy="761760"/>
                  <a:chOff x="2022480" y="2292480"/>
                  <a:chExt cx="1019160" cy="76176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2022480" y="2292480"/>
                    <a:ext cx="1019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2022480" y="3054240"/>
                    <a:ext cx="1019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1600200" y="2057400"/>
                  <a:ext cx="466560" cy="1200960"/>
                  <a:chOff x="1600200" y="2057400"/>
                  <a:chExt cx="466560" cy="1200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600200" y="2057400"/>
                    <a:ext cx="466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600200" y="2817720"/>
                    <a:ext cx="466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" name=""/>
              <p:cNvGrpSpPr/>
              <p:nvPr/>
            </p:nvGrpSpPr>
            <p:grpSpPr>
              <a:xfrm>
                <a:off x="5562720" y="1752480"/>
                <a:ext cx="1457280" cy="1963080"/>
                <a:chOff x="5562720" y="1752480"/>
                <a:chExt cx="1457280" cy="19630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5562720" y="1981080"/>
                  <a:ext cx="1019160" cy="1530360"/>
                  <a:chOff x="5562720" y="1981080"/>
                  <a:chExt cx="1019160" cy="15303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5562720" y="1981080"/>
                    <a:ext cx="1019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562720" y="2745360"/>
                    <a:ext cx="1019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562720" y="3511440"/>
                    <a:ext cx="1019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537240" y="1752480"/>
                  <a:ext cx="482760" cy="1963080"/>
                  <a:chOff x="6537240" y="1752480"/>
                  <a:chExt cx="482760" cy="196308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6537240" y="1752480"/>
                    <a:ext cx="46692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537240" y="2575080"/>
                    <a:ext cx="46692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6553080" y="3274920"/>
                    <a:ext cx="46692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42696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400" spc="-1" strike="noStrike">
                <a:solidFill>
                  <a:srgbClr val="000000"/>
                </a:solidFill>
                <a:latin typeface="Arial"/>
              </a:rPr>
              <a:t>MOST IMPORTANT ANN PROPERT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600200"/>
            <a:ext cx="822960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7960" indent="-507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65196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earning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65196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65196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ise and error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spcBef>
                <a:spcPts val="799"/>
              </a:spcBef>
              <a:tabLst>
                <a:tab algn="l" pos="0"/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651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TYPES OF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600200"/>
            <a:ext cx="822960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cognition (image, speech, feature vectors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pprox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gna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ystem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ont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WHEN TO USE 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When there is no clear mathematical model or 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When the data is noisy, error prone and 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When adaptive learning is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igh dimension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When NN provide better results than alternative solutions (faster response in real time, error tole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PROBLEMS WITH NN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 semantics in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 some problem solvable by using NN at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termining N architecture and learning rule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lasticity  /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Solutions – advanced neural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nergy of neural networks, fyzzy systems and genetic algortihms – computational intel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zzy logic brings semantics into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en. algorithms improve learning by tweaking all posible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252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JAVA NEURAL NETWORK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RAMEWORK NEURO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44792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neuroph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62012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KS AND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00200"/>
            <a:ext cx="822960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s.fon.rs/neuronske_mr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neuroph.sourceforg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archive.ics.uci.edu/m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al Networks - A Systematic Introduction , besplatna online knj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Neural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Applica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295280"/>
            <a:ext cx="8229600" cy="56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ock market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dar object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ace, character, fingerprint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agnostics in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ise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IEF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95280"/>
            <a:ext cx="822960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07960">
              <a:spcBef>
                <a:spcPts val="601"/>
              </a:spcBef>
              <a:tabLst>
                <a:tab algn="l" pos="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584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07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58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s, history,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07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58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model of artificial neuron, neural network architectures and learn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07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58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Layer Perceptron and Back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07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58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solving using neur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07960">
              <a:spcBef>
                <a:spcPts val="601"/>
              </a:spcBef>
              <a:tabLst>
                <a:tab algn="l" pos="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584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07960">
              <a:spcBef>
                <a:spcPts val="601"/>
              </a:spcBef>
              <a:tabLst>
                <a:tab algn="l" pos="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584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07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58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  2. Neural network framewrok Neuroph and basic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07960">
              <a:spcBef>
                <a:spcPts val="601"/>
              </a:spcBef>
              <a:tabLst>
                <a:tab algn="l" pos="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58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and  4. Problem solving using neural networks (image, o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07960">
              <a:spcBef>
                <a:spcPts val="601"/>
              </a:spcBef>
              <a:tabLst>
                <a:tab algn="l" pos="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584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WHAT IS NEURAL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rain inspired mathemati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ological and artificial 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52880" y="3352680"/>
            <a:ext cx="3429000" cy="2381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3556080" cy="28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OLOGICAL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1516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Biological Neural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rain as biological neural net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19320" y="1295280"/>
            <a:ext cx="6622920" cy="5418360"/>
            <a:chOff x="1219320" y="1295280"/>
            <a:chExt cx="6622920" cy="54183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219320" y="1295280"/>
              <a:ext cx="6622920" cy="541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219320" y="1295280"/>
              <a:ext cx="6622920" cy="54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BRAIN AND 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rai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WenQuanYi Micro Hei"/>
              </a:rPr>
              <a:t>1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WenQuanYi Micro Hei"/>
              </a:rPr>
              <a:t>1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speed at mili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lly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N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20 000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Speed at nano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Simulating paralle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943. First neur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957. 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ercep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969. P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erceptron issu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abandonimg N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986. Multi Layer Percep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990. Research continued, and applications in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6:28:48Z</dcterms:created>
  <dc:creator>Zoran Sevarac</dc:creator>
  <dc:description/>
  <dc:language>en-US</dc:language>
  <cp:lastModifiedBy>zoran</cp:lastModifiedBy>
  <dcterms:modified xsi:type="dcterms:W3CDTF">2012-12-25T11:21:34Z</dcterms:modified>
  <cp:revision>333</cp:revision>
  <dc:subject/>
  <dc:title>NEURONSKE MREŽE</dc:title>
</cp:coreProperties>
</file>