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9E88-A602-41E9-A486-F306A136E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1E61-013C-45C2-AE73-A072057C7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2724-763B-45A7-B9A5-DD5123088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E1C4-B47E-4739-8D29-1D452A310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058D-F00A-4724-A05C-084D336E6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9388-3D5F-4B31-A4E2-4C278FD65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4867-3F45-463F-9ED4-4B9A723FB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5499-C9AA-4B97-933E-D31C8961C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EC38-9784-4FC0-A26F-5FF3C3CC3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B859-3B5F-4F1C-B56D-22E2B3EC7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207E-3A15-46C5-85A7-BEBC0ED26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1287-4779-4F3D-BE5D-209A6C65C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6A36B-0AA3-4DF6-B449-2EED50E211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795240"/>
            <a:ext cx="7772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EURAL NETWORKS</a:t>
            </a:r>
            <a:br>
              <a:rPr sz="7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5334120"/>
            <a:ext cx="419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 Zoran Ševa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var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par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ionality reduction (P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depends on train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ust provide good representation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etwork parame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hidden layers an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 and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with valida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ing and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rfiting and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 Layer Percep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perceptrn extended with one or more layers of hidden neurons between input and outpu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ble neuron transfer functions (tanh, sigm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Backpropagation algorithm for learning, which is bassed on LMS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solve complex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70280" y="1828800"/>
            <a:ext cx="3916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ulti Layer Perceptron training – able to adjust weights in hidde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 learning algorithm based on LM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Layer Perceptron with Backpropagation is universal aproxim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240" y="1712880"/>
            <a:ext cx="74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šti princip: minimizacija greške kroz iterativnu proced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09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09480" y="5486400"/>
                <a:ext cx="7848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μ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81680" y="2666880"/>
            <a:ext cx="7621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1"/>
          </p:cNvCxnSpPr>
          <p:nvPr/>
        </p:nvCxnSpPr>
        <p:spPr>
          <a:xfrm>
            <a:off x="990720" y="4114800"/>
            <a:ext cx="13723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3" idx="2"/>
          </p:cNvCxnSpPr>
          <p:nvPr/>
        </p:nvCxnSpPr>
        <p:spPr>
          <a:xfrm>
            <a:off x="1066320" y="2971800"/>
            <a:ext cx="57157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5" idx="3"/>
            <a:endCxn id="53" idx="4"/>
          </p:cNvCxnSpPr>
          <p:nvPr/>
        </p:nvCxnSpPr>
        <p:spPr>
          <a:xfrm flipV="1">
            <a:off x="4571640" y="3351960"/>
            <a:ext cx="2591640" cy="801000"/>
          </a:xfrm>
          <a:prstGeom prst="bentConnector3">
            <a:avLst>
              <a:gd name="adj1" fmla="val 50000"/>
            </a:avLst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6"/>
          </p:cNvCxnSpPr>
          <p:nvPr/>
        </p:nvCxnSpPr>
        <p:spPr>
          <a:xfrm flipV="1" rot="10800000">
            <a:off x="4190400" y="3009600"/>
            <a:ext cx="3353400" cy="22485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59" name=""/>
          <p:cNvCxnSpPr/>
          <p:nvPr/>
        </p:nvCxnSpPr>
        <p:spPr>
          <a:xfrm>
            <a:off x="-1371600" y="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607320" y="3123720"/>
            <a:ext cx="213444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362320" y="3429000"/>
            <a:ext cx="220968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k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06560" y="3657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4811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red output 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57680" y="36576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output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34240" y="2590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6280" y="47242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x) = d(x) –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MS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5800" y="5410080"/>
                <a:ext cx="1760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3733920"/>
                <a:ext cx="411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+με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85800" y="1338120"/>
            <a:ext cx="80010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MS rul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 output neuron error for pattern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d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y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359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total network error for all patterns from training se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training stops when this error is below some predefined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3200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weight change according to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for adjusting hidden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960" y="2984400"/>
            <a:ext cx="8344080" cy="9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x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x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arn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tch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propagation algori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x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x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Error s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WenQuanYi Micro Hei"/>
              </a:rPr>
              <a:t>MSE for specific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raining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athering and prepar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twork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twork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hoosing optimal parameters experimentaly (neuron number, layer number, learning rule parame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9:16:49Z</dcterms:created>
  <dc:creator>zoran</dc:creator>
  <dc:description/>
  <dc:language>en-US</dc:language>
  <cp:lastModifiedBy>zoran</cp:lastModifiedBy>
  <dcterms:modified xsi:type="dcterms:W3CDTF">2012-12-25T11:22:17Z</dcterms:modified>
  <cp:revision>93</cp:revision>
  <dc:subject/>
  <dc:title>Slide 1</dc:title>
</cp:coreProperties>
</file>