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3.png" ContentType="image/pn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4C3-995B-44BC-99C3-C73C5367C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1055-4C4E-4B54-B1AC-323A8710E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9C8-CBBF-443B-A981-8635226E3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F2D9-2F0D-480D-AFEF-FD9D91570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9103-8056-4BEC-866A-4D044AC2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FE7-B82A-4CC2-A892-4F091083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4599-2DD9-42FB-ABC1-E4F0DB81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58E8-F0CD-4617-B890-6505DD4D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BDD-80B5-42BD-AAAC-E38F8F461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0A5D-BFDB-4A41-B7A0-21E76099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4CE-22FF-42F2-9EE3-78D27B6E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7313-D9A4-4656-A79D-133986D3A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8F8B6-F5A9-4A73-8271-5023F5E91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omepagepic"/>
          <p:cNvPicPr/>
          <p:nvPr/>
        </p:nvPicPr>
        <p:blipFill>
          <a:blip r:embed="rId1"/>
          <a:stretch/>
        </p:blipFill>
        <p:spPr>
          <a:xfrm>
            <a:off x="0" y="0"/>
            <a:ext cx="9144000" cy="7348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NEURONSKE MRE</a:t>
            </a:r>
            <a:r>
              <a:rPr b="1" lang="sr-Latn-CS" sz="7200" spc="-1" strike="noStrike">
                <a:solidFill>
                  <a:srgbClr val="ffffff"/>
                </a:solidFill>
                <a:latin typeface="Arial"/>
              </a:rPr>
              <a:t>ŽE</a:t>
            </a:r>
            <a:br>
              <a:rPr sz="7200"/>
            </a:b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1. predav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438280" y="4495680"/>
            <a:ext cx="41911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 Zoran Ševar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varac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@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3590280" y="639612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N,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FINI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DARPA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Neuronska mreža je sistem koji se sastoji od velikog broja međusobno povezanih, jednostavnih elemenata procesiranja koji rade paralelno. Funkcija NM je određena strukturom mreže, težinom veza, i obradom u elementima procesiran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Haykin: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Neuronska mreža je paralelni distribuirani procesor koji ima prirodnu sposobnost čuvanja i korišćenja iskustvenog znanja. Sličnost sa mozgom se ogleda kroz dve osob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mreža stiče znanje kroz proces učen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znanje se čuva u vezama između neurona (sinaptičkim težin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Zurada: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 Veštački neuro sistemi ili neuronske mreže, su ćelijski sistemi koji mogu da stiču, čuvaju i koriste iskustveno znanj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аšto neuronske mrež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mogućavaju inteligentno procesiranje bez prethodno definisanog modela ili algoritma već na osnovu podataka o ponašanju nekog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ju sposobnost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njive su na širok spektar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ikasno mogu da rešavaju veoma složene probleme koji bi inače bili teško rešivi nekim algoritamskim postpupk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iološki i veštački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snovni delovi: telo(soma), dendrit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i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aks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zlaz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sinap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spojev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bioneuron"/>
          <p:cNvPicPr/>
          <p:nvPr/>
        </p:nvPicPr>
        <p:blipFill>
          <a:blip r:embed="rId1"/>
          <a:stretch/>
        </p:blipFill>
        <p:spPr>
          <a:xfrm>
            <a:off x="457200" y="2911320"/>
            <a:ext cx="4876920" cy="292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img6"/>
          <p:cNvPicPr/>
          <p:nvPr/>
        </p:nvPicPr>
        <p:blipFill>
          <a:blip r:embed="rId2"/>
          <a:stretch/>
        </p:blipFill>
        <p:spPr>
          <a:xfrm>
            <a:off x="4800600" y="3505320"/>
            <a:ext cx="313380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Veštački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CS 441 Project #1 Webpage_html_m74fe8c2a copy"/>
          <p:cNvPicPr/>
          <p:nvPr/>
        </p:nvPicPr>
        <p:blipFill>
          <a:blip r:embed="rId1"/>
          <a:stretch/>
        </p:blipFill>
        <p:spPr>
          <a:xfrm>
            <a:off x="1066680" y="1676520"/>
            <a:ext cx="6680160" cy="2946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457200" y="5370480"/>
            <a:ext cx="77724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utput = </a:t>
            </a:r>
            <a:r>
              <a:rPr b="0" lang="en-US" sz="5400" spc="-1" strike="noStrike">
                <a:solidFill>
                  <a:srgbClr val="000000"/>
                </a:solidFill>
                <a:latin typeface="Monotype Corsiva"/>
              </a:rPr>
              <a:t>f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+ …+w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snovni elementi veštačkog neuron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na funkcija sumi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kcija tran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azi sa težinskim koeficijent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l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FUNKCIJE TRANSF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linearna%20funkcija"/>
          <p:cNvPicPr/>
          <p:nvPr/>
        </p:nvPicPr>
        <p:blipFill>
          <a:blip r:embed="rId1"/>
          <a:stretch/>
        </p:blipFill>
        <p:spPr>
          <a:xfrm>
            <a:off x="5486400" y="2286000"/>
            <a:ext cx="1704960" cy="134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odskocna%20funkcija"/>
          <p:cNvPicPr/>
          <p:nvPr/>
        </p:nvPicPr>
        <p:blipFill>
          <a:blip r:embed="rId2"/>
          <a:stretch/>
        </p:blipFill>
        <p:spPr>
          <a:xfrm>
            <a:off x="5334120" y="3657600"/>
            <a:ext cx="1685880" cy="1324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sigmoidna%20funkcija"/>
          <p:cNvPicPr/>
          <p:nvPr/>
        </p:nvPicPr>
        <p:blipFill>
          <a:blip r:embed="rId3"/>
          <a:stretch/>
        </p:blipFill>
        <p:spPr>
          <a:xfrm>
            <a:off x="5486400" y="5029200"/>
            <a:ext cx="1676520" cy="13334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1122480" y="2652840"/>
            <a:ext cx="183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1122480" y="265284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1122480" y="2652840"/>
            <a:ext cx="183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122480" y="2652840"/>
            <a:ext cx="1380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1122480" y="2652840"/>
            <a:ext cx="1838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2209680"/>
          <a:ext cx="7924680" cy="4191120"/>
        </p:xfrm>
        <a:graphic>
          <a:graphicData uri="http://schemas.openxmlformats.org/drawingml/2006/table">
            <a:tbl>
              <a:tblPr/>
              <a:tblGrid>
                <a:gridCol w="4048200"/>
                <a:gridCol w="3876480"/>
              </a:tblGrid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dskoč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gmoidn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8"/>
          <p:cNvSpPr/>
          <p:nvPr/>
        </p:nvSpPr>
        <p:spPr>
          <a:xfrm>
            <a:off x="4572000" y="2438280"/>
            <a:ext cx="190512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cCulloch Pits Neur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reshold Logic 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240" y="4876560"/>
            <a:ext cx="6095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…+w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6"/>
          <p:cNvSpPr/>
          <p:nvPr/>
        </p:nvSpPr>
        <p:spPr>
          <a:xfrm>
            <a:off x="2666880" y="1752480"/>
            <a:ext cx="4267440" cy="2819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odskocna%20funkcija"/>
          <p:cNvPicPr/>
          <p:nvPr/>
        </p:nvPicPr>
        <p:blipFill>
          <a:blip r:embed="rId1"/>
          <a:stretch/>
        </p:blipFill>
        <p:spPr>
          <a:xfrm>
            <a:off x="4648320" y="2438280"/>
            <a:ext cx="1685880" cy="1324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3200400" y="2590920"/>
            <a:ext cx="83808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9"/>
          <p:cNvSpPr/>
          <p:nvPr/>
        </p:nvSpPr>
        <p:spPr>
          <a:xfrm>
            <a:off x="40384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838080" y="16002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1"/>
          <p:cNvSpPr/>
          <p:nvPr/>
        </p:nvSpPr>
        <p:spPr>
          <a:xfrm flipV="1">
            <a:off x="762120" y="3352320"/>
            <a:ext cx="23619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"/>
          <p:cNvSpPr/>
          <p:nvPr/>
        </p:nvSpPr>
        <p:spPr>
          <a:xfrm>
            <a:off x="838080" y="2362320"/>
            <a:ext cx="2286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3"/>
          <p:cNvSpPr/>
          <p:nvPr/>
        </p:nvSpPr>
        <p:spPr>
          <a:xfrm flipV="1">
            <a:off x="838080" y="32004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4"/>
          <p:cNvSpPr/>
          <p:nvPr/>
        </p:nvSpPr>
        <p:spPr>
          <a:xfrm>
            <a:off x="6477120" y="3124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Vrste NM prema arhitektu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ConnectionStructures"/>
          <p:cNvPicPr/>
          <p:nvPr/>
        </p:nvPicPr>
        <p:blipFill>
          <a:blip r:embed="rId1"/>
          <a:stretch/>
        </p:blipFill>
        <p:spPr>
          <a:xfrm>
            <a:off x="1905120" y="1371600"/>
            <a:ext cx="5796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UČENJE/TRENING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Učenje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procedura podešavanja težina veza tako da mreža dobije željeno ponašanje/funkcion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je sa učiteljem –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čenje bez učitelja –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SUPERVIZORNO UČENJE </a:t>
            </a:r>
            <a:r>
              <a:rPr b="0" i="1" lang="sr-Latn-CS" sz="3600" spc="-1" strike="noStrike">
                <a:solidFill>
                  <a:srgbClr val="808080"/>
                </a:solidFill>
                <a:latin typeface="Arial"/>
              </a:rPr>
              <a:t>(SUPERVISED LEARNING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822240" y="1712880"/>
            <a:ext cx="748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pšti princip: minimizacija greške kroz iterativnu proced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9"/>
              <p:cNvSpPr txBox="1"/>
              <p:nvPr/>
            </p:nvSpPr>
            <p:spPr>
              <a:xfrm>
                <a:off x="609480" y="5486400"/>
                <a:ext cx="7848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Δ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μ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Oval 6"/>
          <p:cNvSpPr/>
          <p:nvPr/>
        </p:nvSpPr>
        <p:spPr>
          <a:xfrm>
            <a:off x="6781680" y="2666880"/>
            <a:ext cx="762120" cy="685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Straight Arrow Connector 8"/>
          <p:cNvCxnSpPr>
            <a:endCxn id="109" idx="1"/>
          </p:cNvCxnSpPr>
          <p:nvPr/>
        </p:nvCxnSpPr>
        <p:spPr>
          <a:xfrm>
            <a:off x="990720" y="4114800"/>
            <a:ext cx="13723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0" name="Straight Arrow Connector 10"/>
          <p:cNvCxnSpPr>
            <a:endCxn id="107" idx="2"/>
          </p:cNvCxnSpPr>
          <p:nvPr/>
        </p:nvCxnSpPr>
        <p:spPr>
          <a:xfrm>
            <a:off x="1066320" y="2971800"/>
            <a:ext cx="5715720" cy="38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Straight Arrow Connector 14"/>
          <p:cNvCxnSpPr>
            <a:stCxn id="109" idx="3"/>
            <a:endCxn id="107" idx="4"/>
          </p:cNvCxnSpPr>
          <p:nvPr/>
        </p:nvCxnSpPr>
        <p:spPr>
          <a:xfrm flipV="1">
            <a:off x="4571640" y="3351960"/>
            <a:ext cx="2591640" cy="801000"/>
          </a:xfrm>
          <a:prstGeom prst="bentConnector2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Straight Arrow Connector 16"/>
          <p:cNvCxnSpPr>
            <a:stCxn id="107" idx="6"/>
          </p:cNvCxnSpPr>
          <p:nvPr/>
        </p:nvCxnSpPr>
        <p:spPr>
          <a:xfrm flipH="1">
            <a:off x="4190400" y="3009960"/>
            <a:ext cx="3353400" cy="2248560"/>
          </a:xfrm>
          <a:prstGeom prst="bentConnector3">
            <a:avLst>
              <a:gd name="adj1" fmla="val -6817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113" name="Straight Arrow Connector 28"/>
          <p:cNvCxnSpPr/>
          <p:nvPr/>
        </p:nvCxnSpPr>
        <p:spPr>
          <a:xfrm>
            <a:off x="-1371600" y="0"/>
            <a:ext cx="915120" cy="91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14" name="Straight Arrow Connector 30"/>
          <p:cNvCxnSpPr/>
          <p:nvPr/>
        </p:nvCxnSpPr>
        <p:spPr>
          <a:xfrm flipH="1" flipV="1">
            <a:off x="2742840" y="3123360"/>
            <a:ext cx="1448640" cy="2134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9" name="Rectangle 5"/>
          <p:cNvSpPr/>
          <p:nvPr/>
        </p:nvSpPr>
        <p:spPr>
          <a:xfrm>
            <a:off x="2362320" y="3429000"/>
            <a:ext cx="2209680" cy="1447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euronska mrež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34"/>
          <p:cNvSpPr/>
          <p:nvPr/>
        </p:nvSpPr>
        <p:spPr>
          <a:xfrm>
            <a:off x="106668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az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35"/>
          <p:cNvSpPr/>
          <p:nvPr/>
        </p:nvSpPr>
        <p:spPr>
          <a:xfrm>
            <a:off x="1066680" y="25146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eljeni izlaz d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7"/>
          <p:cNvSpPr/>
          <p:nvPr/>
        </p:nvSpPr>
        <p:spPr>
          <a:xfrm>
            <a:off x="4734720" y="365760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i izlaz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626600" y="25909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š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4"/>
          <p:cNvSpPr/>
          <p:nvPr/>
        </p:nvSpPr>
        <p:spPr>
          <a:xfrm>
            <a:off x="4887000" y="4724280"/>
            <a:ext cx="192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(x) = d(x) – y(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CILJ PREDAVANJA I VEŽBI IZ NEURONSKIH MREŽ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oznavanje sa tehnologijom - osnovni pojmovi i modeli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sti i 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ime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Upoznavanje i ovladavanj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 Neural Network Framewor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 kraju ćete biti osposobljeni da prepoznate probleme koji se mogu rešavati pomoću NM kao i da uspešno implementirate odgovarajuć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r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zvoj Neuroph framework-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ADA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inearna funkcija transf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na kombinacija ula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y = 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+…+w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n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čenje metodom najmanjih kvad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2139840" y="1447920"/>
            <a:ext cx="5356440" cy="2604960"/>
            <a:chOff x="2139840" y="1447920"/>
            <a:chExt cx="5356440" cy="2604960"/>
          </a:xfrm>
        </p:grpSpPr>
        <p:sp>
          <p:nvSpPr>
            <p:cNvPr id="123" name="Rectangle 5"/>
            <p:cNvSpPr/>
            <p:nvPr/>
          </p:nvSpPr>
          <p:spPr>
            <a:xfrm>
              <a:off x="3545280" y="1447920"/>
              <a:ext cx="780840" cy="260496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5369040" y="1968480"/>
              <a:ext cx="781200" cy="156384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7"/>
            <p:cNvGrpSpPr/>
            <p:nvPr/>
          </p:nvGrpSpPr>
          <p:grpSpPr>
            <a:xfrm>
              <a:off x="3919680" y="1968480"/>
              <a:ext cx="1839960" cy="1612440"/>
              <a:chOff x="3919680" y="1968480"/>
              <a:chExt cx="1839960" cy="1612440"/>
            </a:xfrm>
          </p:grpSpPr>
          <p:sp>
            <p:nvSpPr>
              <p:cNvPr id="126" name="Line 8"/>
              <p:cNvSpPr/>
              <p:nvPr/>
            </p:nvSpPr>
            <p:spPr>
              <a:xfrm flipV="1">
                <a:off x="3919680" y="2800080"/>
                <a:ext cx="1824120" cy="78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9"/>
              <p:cNvSpPr/>
              <p:nvPr/>
            </p:nvSpPr>
            <p:spPr>
              <a:xfrm>
                <a:off x="3935520" y="2706840"/>
                <a:ext cx="1824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0"/>
              <p:cNvSpPr/>
              <p:nvPr/>
            </p:nvSpPr>
            <p:spPr>
              <a:xfrm>
                <a:off x="4065840" y="1968480"/>
                <a:ext cx="1563840" cy="52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Oval 11"/>
            <p:cNvSpPr/>
            <p:nvPr/>
          </p:nvSpPr>
          <p:spPr>
            <a:xfrm>
              <a:off x="3675240" y="1665360"/>
              <a:ext cx="520920" cy="52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>
              <a:off x="3675240" y="2446200"/>
              <a:ext cx="520920" cy="52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>
              <a:off x="3675240" y="3227400"/>
              <a:ext cx="520920" cy="522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4"/>
            <p:cNvSpPr/>
            <p:nvPr/>
          </p:nvSpPr>
          <p:spPr>
            <a:xfrm>
              <a:off x="5499360" y="2454120"/>
              <a:ext cx="520560" cy="52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15"/>
            <p:cNvGrpSpPr/>
            <p:nvPr/>
          </p:nvGrpSpPr>
          <p:grpSpPr>
            <a:xfrm>
              <a:off x="2139840" y="1679400"/>
              <a:ext cx="1495440" cy="2026800"/>
              <a:chOff x="2139840" y="1679400"/>
              <a:chExt cx="1495440" cy="2026800"/>
            </a:xfrm>
          </p:grpSpPr>
          <p:grpSp>
            <p:nvGrpSpPr>
              <p:cNvPr id="134" name="Group 16"/>
              <p:cNvGrpSpPr/>
              <p:nvPr/>
            </p:nvGrpSpPr>
            <p:grpSpPr>
              <a:xfrm>
                <a:off x="2557800" y="1903320"/>
                <a:ext cx="1077480" cy="1602000"/>
                <a:chOff x="2557800" y="1903320"/>
                <a:chExt cx="1077480" cy="1602000"/>
              </a:xfrm>
            </p:grpSpPr>
            <p:grpSp>
              <p:nvGrpSpPr>
                <p:cNvPr id="135" name="Group 17"/>
                <p:cNvGrpSpPr/>
                <p:nvPr/>
              </p:nvGrpSpPr>
              <p:grpSpPr>
                <a:xfrm>
                  <a:off x="2594160" y="1903320"/>
                  <a:ext cx="1041120" cy="803520"/>
                  <a:chOff x="2594160" y="1903320"/>
                  <a:chExt cx="1041120" cy="803520"/>
                </a:xfrm>
              </p:grpSpPr>
              <p:sp>
                <p:nvSpPr>
                  <p:cNvPr id="136" name="Line 18"/>
                  <p:cNvSpPr/>
                  <p:nvPr/>
                </p:nvSpPr>
                <p:spPr>
                  <a:xfrm flipH="1">
                    <a:off x="2594160" y="1903320"/>
                    <a:ext cx="1041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Line 19"/>
                  <p:cNvSpPr/>
                  <p:nvPr/>
                </p:nvSpPr>
                <p:spPr>
                  <a:xfrm flipH="1">
                    <a:off x="2594160" y="2706840"/>
                    <a:ext cx="10411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head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Line 20"/>
                <p:cNvSpPr/>
                <p:nvPr/>
              </p:nvSpPr>
              <p:spPr>
                <a:xfrm flipH="1">
                  <a:off x="2557800" y="3505320"/>
                  <a:ext cx="104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lg" type="arrow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Group 21"/>
              <p:cNvGrpSpPr/>
              <p:nvPr/>
            </p:nvGrpSpPr>
            <p:grpSpPr>
              <a:xfrm>
                <a:off x="2139840" y="1679400"/>
                <a:ext cx="419040" cy="2026800"/>
                <a:chOff x="2139840" y="1679400"/>
                <a:chExt cx="419040" cy="2026800"/>
              </a:xfrm>
            </p:grpSpPr>
            <p:sp>
              <p:nvSpPr>
                <p:cNvPr id="140" name="Text Box 22"/>
                <p:cNvSpPr/>
                <p:nvPr/>
              </p:nvSpPr>
              <p:spPr>
                <a:xfrm>
                  <a:off x="2139840" y="167940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Text Box 23"/>
                <p:cNvSpPr/>
                <p:nvPr/>
              </p:nvSpPr>
              <p:spPr>
                <a:xfrm>
                  <a:off x="2153880" y="244152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Text Box 24"/>
                <p:cNvSpPr/>
                <p:nvPr/>
              </p:nvSpPr>
              <p:spPr>
                <a:xfrm>
                  <a:off x="2153880" y="3265560"/>
                  <a:ext cx="40500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u</a:t>
                  </a:r>
                  <a:r>
                    <a:rPr b="0" lang="en-US" sz="20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Group 25"/>
            <p:cNvGrpSpPr/>
            <p:nvPr/>
          </p:nvGrpSpPr>
          <p:grpSpPr>
            <a:xfrm>
              <a:off x="4600800" y="1766880"/>
              <a:ext cx="473040" cy="1431360"/>
              <a:chOff x="4600800" y="1766880"/>
              <a:chExt cx="473040" cy="1431360"/>
            </a:xfrm>
          </p:grpSpPr>
          <p:sp>
            <p:nvSpPr>
              <p:cNvPr id="144" name="Text Box 26"/>
              <p:cNvSpPr/>
              <p:nvPr/>
            </p:nvSpPr>
            <p:spPr>
              <a:xfrm>
                <a:off x="4600800" y="1766880"/>
                <a:ext cx="4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27"/>
              <p:cNvSpPr/>
              <p:nvPr/>
            </p:nvSpPr>
            <p:spPr>
              <a:xfrm>
                <a:off x="4600800" y="2224080"/>
                <a:ext cx="4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28"/>
              <p:cNvSpPr/>
              <p:nvPr/>
            </p:nvSpPr>
            <p:spPr>
              <a:xfrm>
                <a:off x="4600800" y="2757600"/>
                <a:ext cx="4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29"/>
            <p:cNvGrpSpPr/>
            <p:nvPr/>
          </p:nvGrpSpPr>
          <p:grpSpPr>
            <a:xfrm>
              <a:off x="6033960" y="2513160"/>
              <a:ext cx="1462320" cy="398880"/>
              <a:chOff x="6033960" y="2513160"/>
              <a:chExt cx="1462320" cy="398880"/>
            </a:xfrm>
          </p:grpSpPr>
          <p:sp>
            <p:nvSpPr>
              <p:cNvPr id="148" name="Line 30"/>
              <p:cNvSpPr/>
              <p:nvPr/>
            </p:nvSpPr>
            <p:spPr>
              <a:xfrm flipH="1">
                <a:off x="6033960" y="2728800"/>
                <a:ext cx="10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 Box 31"/>
              <p:cNvSpPr/>
              <p:nvPr/>
            </p:nvSpPr>
            <p:spPr>
              <a:xfrm>
                <a:off x="7191720" y="251316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MS U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685800" y="5410080"/>
                <a:ext cx="176040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p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4"/>
              <p:cNvSpPr txBox="1"/>
              <p:nvPr/>
            </p:nvSpPr>
            <p:spPr>
              <a:xfrm>
                <a:off x="685800" y="3733920"/>
                <a:ext cx="411480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με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3" name="Rectangle 6"/>
          <p:cNvSpPr/>
          <p:nvPr/>
        </p:nvSpPr>
        <p:spPr>
          <a:xfrm>
            <a:off x="685800" y="1338120"/>
            <a:ext cx="8001000" cy="16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MS pravilo se može izraziti kroz sledeće jednači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1) greška izlaznog neurona za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ti uzorak iz skupa za tr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d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-y</a:t>
            </a:r>
            <a:r>
              <a:rPr b="0" i="1" lang="sr-Latn-CS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609480" y="422244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ukupna greška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reže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a sve uzorke iz skupa za trening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kriterijum za zaustavljanje treninga – mreža je naučila kada je greška svedena na prihvatljivu me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9480" y="319968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 promena težine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veze proporcionalno gre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PERCEPT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4267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 funkcija tran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rceptron lear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vi algoritam za u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je nelinearnih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amo za linearno separabilne probl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4"/>
          <p:cNvGrpSpPr/>
          <p:nvPr/>
        </p:nvGrpSpPr>
        <p:grpSpPr>
          <a:xfrm>
            <a:off x="1600200" y="1523880"/>
            <a:ext cx="5425920" cy="2562120"/>
            <a:chOff x="1600200" y="1523880"/>
            <a:chExt cx="5425920" cy="2562120"/>
          </a:xfrm>
        </p:grpSpPr>
        <p:sp>
          <p:nvSpPr>
            <p:cNvPr id="159" name="Rectangle 35"/>
            <p:cNvSpPr/>
            <p:nvPr/>
          </p:nvSpPr>
          <p:spPr>
            <a:xfrm flipH="1">
              <a:off x="4926600" y="1523880"/>
              <a:ext cx="768600" cy="2562120"/>
            </a:xfrm>
            <a:prstGeom prst="rect">
              <a:avLst/>
            </a:prstGeom>
            <a:solidFill>
              <a:srgbClr val="0000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36"/>
            <p:cNvGrpSpPr/>
            <p:nvPr/>
          </p:nvGrpSpPr>
          <p:grpSpPr>
            <a:xfrm>
              <a:off x="1600200" y="1738080"/>
              <a:ext cx="5425920" cy="2049480"/>
              <a:chOff x="1600200" y="1738080"/>
              <a:chExt cx="5425920" cy="2049480"/>
            </a:xfrm>
          </p:grpSpPr>
          <p:sp>
            <p:nvSpPr>
              <p:cNvPr id="161" name="Rectangle 37"/>
              <p:cNvSpPr/>
              <p:nvPr/>
            </p:nvSpPr>
            <p:spPr>
              <a:xfrm flipH="1">
                <a:off x="3119400" y="1779480"/>
                <a:ext cx="768240" cy="1793880"/>
              </a:xfrm>
              <a:prstGeom prst="rect">
                <a:avLst/>
              </a:prstGeom>
              <a:solidFill>
                <a:srgbClr val="000000">
                  <a:alpha val="2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38"/>
              <p:cNvGrpSpPr/>
              <p:nvPr/>
            </p:nvGrpSpPr>
            <p:grpSpPr>
              <a:xfrm>
                <a:off x="3389040" y="2044440"/>
                <a:ext cx="1792080" cy="1536840"/>
                <a:chOff x="3389040" y="2044440"/>
                <a:chExt cx="1792080" cy="1536840"/>
              </a:xfrm>
            </p:grpSpPr>
            <p:sp>
              <p:nvSpPr>
                <p:cNvPr id="163" name="Line 39"/>
                <p:cNvSpPr/>
                <p:nvPr/>
              </p:nvSpPr>
              <p:spPr>
                <a:xfrm flipH="1">
                  <a:off x="3646080" y="2044440"/>
                  <a:ext cx="1535040" cy="25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40"/>
                <p:cNvSpPr/>
                <p:nvPr/>
              </p:nvSpPr>
              <p:spPr>
                <a:xfrm flipH="1">
                  <a:off x="3646080" y="2044440"/>
                  <a:ext cx="1535040" cy="102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41"/>
                <p:cNvSpPr/>
                <p:nvPr/>
              </p:nvSpPr>
              <p:spPr>
                <a:xfrm flipH="1" flipV="1">
                  <a:off x="3646080" y="3068640"/>
                  <a:ext cx="1535040" cy="512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42"/>
                <p:cNvSpPr/>
                <p:nvPr/>
              </p:nvSpPr>
              <p:spPr>
                <a:xfrm flipH="1" flipV="1">
                  <a:off x="3389040" y="2299680"/>
                  <a:ext cx="1792080" cy="1281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43"/>
                <p:cNvSpPr/>
                <p:nvPr/>
              </p:nvSpPr>
              <p:spPr>
                <a:xfrm flipH="1" flipV="1">
                  <a:off x="3389040" y="2299680"/>
                  <a:ext cx="1792080" cy="513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44"/>
                <p:cNvSpPr/>
                <p:nvPr/>
              </p:nvSpPr>
              <p:spPr>
                <a:xfrm flipH="1">
                  <a:off x="3646080" y="2813040"/>
                  <a:ext cx="1535040" cy="255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9" name="Oval 45"/>
              <p:cNvSpPr/>
              <p:nvPr/>
            </p:nvSpPr>
            <p:spPr>
              <a:xfrm flipH="1">
                <a:off x="3247920" y="2036520"/>
                <a:ext cx="511200" cy="513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Oval 46"/>
              <p:cNvSpPr/>
              <p:nvPr/>
            </p:nvSpPr>
            <p:spPr>
              <a:xfrm flipH="1">
                <a:off x="3247920" y="2805120"/>
                <a:ext cx="511200" cy="51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47"/>
              <p:cNvSpPr/>
              <p:nvPr/>
            </p:nvSpPr>
            <p:spPr>
              <a:xfrm flipH="1">
                <a:off x="5039640" y="1738080"/>
                <a:ext cx="510840" cy="5112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Oval 48"/>
              <p:cNvSpPr/>
              <p:nvPr/>
            </p:nvSpPr>
            <p:spPr>
              <a:xfrm flipH="1">
                <a:off x="5029200" y="2514600"/>
                <a:ext cx="511200" cy="51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Oval 49"/>
              <p:cNvSpPr/>
              <p:nvPr/>
            </p:nvSpPr>
            <p:spPr>
              <a:xfrm flipH="1">
                <a:off x="5039640" y="3274920"/>
                <a:ext cx="510840" cy="51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4" name="Group 50"/>
              <p:cNvGrpSpPr/>
              <p:nvPr/>
            </p:nvGrpSpPr>
            <p:grpSpPr>
              <a:xfrm>
                <a:off x="1600200" y="2057400"/>
                <a:ext cx="1447560" cy="1202400"/>
                <a:chOff x="1600200" y="2057400"/>
                <a:chExt cx="1447560" cy="1202400"/>
              </a:xfrm>
            </p:grpSpPr>
            <p:grpSp>
              <p:nvGrpSpPr>
                <p:cNvPr id="175" name="Group 51"/>
                <p:cNvGrpSpPr/>
                <p:nvPr/>
              </p:nvGrpSpPr>
              <p:grpSpPr>
                <a:xfrm>
                  <a:off x="2022480" y="2292120"/>
                  <a:ext cx="1025280" cy="768600"/>
                  <a:chOff x="2022480" y="2292120"/>
                  <a:chExt cx="1025280" cy="768600"/>
                </a:xfrm>
              </p:grpSpPr>
              <p:sp>
                <p:nvSpPr>
                  <p:cNvPr id="176" name="Line 52"/>
                  <p:cNvSpPr/>
                  <p:nvPr/>
                </p:nvSpPr>
                <p:spPr>
                  <a:xfrm>
                    <a:off x="2022480" y="2292120"/>
                    <a:ext cx="102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Line 53"/>
                  <p:cNvSpPr/>
                  <p:nvPr/>
                </p:nvSpPr>
                <p:spPr>
                  <a:xfrm>
                    <a:off x="2022480" y="3060720"/>
                    <a:ext cx="102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54"/>
                <p:cNvGrpSpPr/>
                <p:nvPr/>
              </p:nvGrpSpPr>
              <p:grpSpPr>
                <a:xfrm>
                  <a:off x="1600200" y="2057400"/>
                  <a:ext cx="473040" cy="1202400"/>
                  <a:chOff x="1600200" y="2057400"/>
                  <a:chExt cx="473040" cy="1202400"/>
                </a:xfrm>
              </p:grpSpPr>
              <p:sp>
                <p:nvSpPr>
                  <p:cNvPr id="179" name="Text Box 55"/>
                  <p:cNvSpPr/>
                  <p:nvPr/>
                </p:nvSpPr>
                <p:spPr>
                  <a:xfrm>
                    <a:off x="1600200" y="2057400"/>
                    <a:ext cx="473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Text Box 56"/>
                  <p:cNvSpPr/>
                  <p:nvPr/>
                </p:nvSpPr>
                <p:spPr>
                  <a:xfrm>
                    <a:off x="1600200" y="2819160"/>
                    <a:ext cx="473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u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1" name="Group 57"/>
              <p:cNvGrpSpPr/>
              <p:nvPr/>
            </p:nvGrpSpPr>
            <p:grpSpPr>
              <a:xfrm>
                <a:off x="5562360" y="1752480"/>
                <a:ext cx="1463760" cy="1964520"/>
                <a:chOff x="5562360" y="1752480"/>
                <a:chExt cx="1463760" cy="1964520"/>
              </a:xfrm>
            </p:grpSpPr>
            <p:grpSp>
              <p:nvGrpSpPr>
                <p:cNvPr id="182" name="Group 58"/>
                <p:cNvGrpSpPr/>
                <p:nvPr/>
              </p:nvGrpSpPr>
              <p:grpSpPr>
                <a:xfrm>
                  <a:off x="5562360" y="1981080"/>
                  <a:ext cx="1025280" cy="1536840"/>
                  <a:chOff x="5562360" y="1981080"/>
                  <a:chExt cx="1025280" cy="1536840"/>
                </a:xfrm>
              </p:grpSpPr>
              <p:sp>
                <p:nvSpPr>
                  <p:cNvPr id="183" name="Line 59"/>
                  <p:cNvSpPr/>
                  <p:nvPr/>
                </p:nvSpPr>
                <p:spPr>
                  <a:xfrm>
                    <a:off x="5562360" y="1981080"/>
                    <a:ext cx="102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Line 60"/>
                  <p:cNvSpPr/>
                  <p:nvPr/>
                </p:nvSpPr>
                <p:spPr>
                  <a:xfrm>
                    <a:off x="5562360" y="2749680"/>
                    <a:ext cx="102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Line 61"/>
                  <p:cNvSpPr/>
                  <p:nvPr/>
                </p:nvSpPr>
                <p:spPr>
                  <a:xfrm>
                    <a:off x="5562360" y="3517920"/>
                    <a:ext cx="10252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  <a:tailEnd len="lg" type="arrow" w="lg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6" name="Group 62"/>
                <p:cNvGrpSpPr/>
                <p:nvPr/>
              </p:nvGrpSpPr>
              <p:grpSpPr>
                <a:xfrm>
                  <a:off x="6537240" y="1752480"/>
                  <a:ext cx="488880" cy="1964520"/>
                  <a:chOff x="6537240" y="1752480"/>
                  <a:chExt cx="488880" cy="1964520"/>
                </a:xfrm>
              </p:grpSpPr>
              <p:sp>
                <p:nvSpPr>
                  <p:cNvPr id="187" name="Text Box 63"/>
                  <p:cNvSpPr/>
                  <p:nvPr/>
                </p:nvSpPr>
                <p:spPr>
                  <a:xfrm>
                    <a:off x="6537240" y="1752480"/>
                    <a:ext cx="473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Text Box 64"/>
                  <p:cNvSpPr/>
                  <p:nvPr/>
                </p:nvSpPr>
                <p:spPr>
                  <a:xfrm>
                    <a:off x="6537240" y="2574720"/>
                    <a:ext cx="473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2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Text Box 65"/>
                  <p:cNvSpPr/>
                  <p:nvPr/>
                </p:nvSpPr>
                <p:spPr>
                  <a:xfrm>
                    <a:off x="6553080" y="3276360"/>
                    <a:ext cx="473040" cy="440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"/>
                      </a:rPr>
                      <a:t>y</a:t>
                    </a:r>
                    <a:r>
                      <a:rPr b="0" lang="en-US" sz="20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3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400" spc="-1" strike="noStrike">
                <a:solidFill>
                  <a:srgbClr val="000000"/>
                </a:solidFill>
                <a:latin typeface="Arial"/>
              </a:rPr>
              <a:t>NAJVAŽNIJE KARAKTERISTIKE VN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ju sposobnost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maju sposobnost generalizac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tporne na pogrešan ulaz i š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VRSTE PROBLEMA ZA KOJE SE KORISTE V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las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poznavanje (oblika, govora, vektora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proksim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ptim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Obrada signa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deliranje 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viđ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ntrola i upravlja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KADA SE KORISTE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nema jasno definisanog matematičkog modela ili drugog reš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je potrebna otpornost na nepotpun ili pogrešan ul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je potrebna sposobnost uče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isokodimenziona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ada se sa NM postižu bolji rezultati nego sa alternativnim rešenjima (npr. odziv u realnom vremenu, tolerancija na grešk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PROBLEMI U PRIMENI V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edostatak semantike u struk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a li je neki problem uopšte rešiv sa N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oblemi sa određivanjem arhitekture i treningom za određenu prime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lastičnost / stabi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00"/>
                </a:solidFill>
                <a:latin typeface="Arial"/>
              </a:rPr>
              <a:t>Rešenja za pojedine probleme -napredne neuronske mrež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ombinacija NM, fuzzy logike i genetskih algoritama – computational intellig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uzzy logika uvodi semantik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struktu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en. algoritmi poboljšavaju algoritme za učen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PRIMERI PRIM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dviđanje na berz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Klasifikacija i prepoznavanje objekata na rada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repoznavanje slika, slova, lica, otisaka prst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ijagnostika u medic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iltriranje šuma u sign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erodinamična konfiguracija ploča k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F-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JAVA NEURAL NETWORK </a:t>
            </a:r>
            <a:br>
              <a:rPr sz="3200"/>
            </a:b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RAMEWORK NEURO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ttp://neuroph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5" descr="NeurophFramework2"/>
          <p:cNvPicPr/>
          <p:nvPr/>
        </p:nvPicPr>
        <p:blipFill>
          <a:blip r:embed="rId1"/>
          <a:stretch/>
        </p:blipFill>
        <p:spPr>
          <a:xfrm>
            <a:off x="1143000" y="2133720"/>
            <a:ext cx="7620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N PREDAVANJA I VEŽB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952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a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novni pojmovi, istorija razvoja i primeri prim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veštačkog neurona, osnovne vrste NM i algoritmi za uče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šeslojni perceptron 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ckpropag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gori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šavanje problema pomoću neuronskih mrež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ž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  2. Softver za neuronske mreže Neuroph i osnovni prim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  i  4. Rešavanje problema pomoću neuronskih mreža i  primeri primene (image, ocr, sto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8960" indent="-49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EME ZA SEMINARSK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E RAD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epoznavanje otisaka prstiju pomoću neuronskih mre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poznavanje lica pomoću neuronskih mre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ranje i debug-ovanje postojećih funkcionalnosti Neuroph–a za prepoznavanje teksta i rukopi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rada android aplikacije za prepoznavanje slika zasnovane na neuronskim mreža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Vizuelizacija neuronskih mrež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ranje Neuroph framework-a za probleme sa UCI Machine Learning Reposi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voj mini framework-a za podršku celokupnom procesz treninga neuronskih mre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apredjenje RBF algoritma za ucenje neuronskih mrež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zvoj neuronskih mreža za clust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avanje dodatnih opcija za kohonen-ove mrež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ranje i razvoj treninga neuronskih mreža pomoću sistema agen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1600" spc="-1" strike="noStrike">
                <a:solidFill>
                  <a:srgbClr val="000000"/>
                </a:solidFill>
                <a:latin typeface="Arial"/>
              </a:rPr>
              <a:t>Primena genetskih algoritama za trening neuronskih mreža pomoću framework-a Neuroph i JGA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KOVI I 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is.fon.rs/neuronske_mre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neuroph.sourceforge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ttp://archive.ics.uci.edu/ml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al Networks - A Systematic Introduction , besplatna online knj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Neural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ŠTA SU NEURONSKE MREŽ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atematički modeli po uzoru na moz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Biološka i veštačka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400px-Neural_network"/>
          <p:cNvPicPr/>
          <p:nvPr/>
        </p:nvPicPr>
        <p:blipFill>
          <a:blip r:embed="rId1"/>
          <a:stretch/>
        </p:blipFill>
        <p:spPr>
          <a:xfrm>
            <a:off x="4952880" y="3352680"/>
            <a:ext cx="3429000" cy="2381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NeuralNets"/>
          <p:cNvPicPr/>
          <p:nvPr/>
        </p:nvPicPr>
        <p:blipFill>
          <a:blip r:embed="rId2"/>
          <a:stretch/>
        </p:blipFill>
        <p:spPr>
          <a:xfrm>
            <a:off x="685800" y="3124080"/>
            <a:ext cx="35560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olo</a:t>
            </a: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ški neu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LBS-neurons2"/>
          <p:cNvPicPr/>
          <p:nvPr/>
        </p:nvPicPr>
        <p:blipFill>
          <a:blip r:embed="rId1"/>
          <a:stretch/>
        </p:blipFill>
        <p:spPr>
          <a:xfrm>
            <a:off x="685800" y="1371600"/>
            <a:ext cx="77151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Biološka neuronska mrež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neuron_culture_800px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50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ozak kao biološka neuronskamreža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NN Discovery.mpg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6294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OZAK I V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Moza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neu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Arial"/>
              </a:rPr>
              <a:t>13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veza između neu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zina rada na nivou mili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otpuno paralelni 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4572000" y="1676520"/>
            <a:ext cx="4419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VN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 20 000 neur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zina rada na nivou nano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imulacija paralelnog r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Kratka istorija razvoja N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43. Prvi matematički model neuro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57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va NM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erceptr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- Početni entuzijaz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69. Kritika </a:t>
            </a:r>
            <a:r>
              <a:rPr b="0" i="1" lang="sr-Latn-CS" sz="3200" spc="-1" strike="noStrike">
                <a:solidFill>
                  <a:srgbClr val="000000"/>
                </a:solidFill>
                <a:latin typeface="Arial"/>
              </a:rPr>
              <a:t>perceptron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, napuštanje istraživanja o N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1986 Višeslojni percept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stavak istraživanja i industrijska primena od 1990. god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6:28:48Z</dcterms:created>
  <dc:creator>Zoran Sevarac</dc:creator>
  <dc:description/>
  <dc:language>en-US</dc:language>
  <cp:lastModifiedBy>zoran</cp:lastModifiedBy>
  <dcterms:modified xsi:type="dcterms:W3CDTF">2012-12-25T11:21:34Z</dcterms:modified>
  <cp:revision>333</cp:revision>
  <dc:subject/>
  <dc:title>NEURONSKE MREŽE</dc:title>
</cp:coreProperties>
</file>