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FC3-B086-4C21-804D-0BD3B574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3A6-BB5B-4CF1-8BE2-7F5F245A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E16-FFBC-4E0F-A6E5-C98DEA33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C7D-528B-45CD-BC90-FBDC3C4B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1D1-931A-43FA-99C1-D623D094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3B3-91FD-40DC-9A9D-15022E35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83C-745C-478A-86B6-E5E4F45A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ADC-CF0A-4230-867B-7158B767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3E7-535D-4F37-AAFB-6040C955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382-4442-4228-BC09-13708239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0DB-C7B4-462A-B284-8F537E6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404-1E2B-402F-8634-0CFBC89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192-4BB7-4516-AC0F-0E4655200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omepagepic"/>
          <p:cNvPicPr/>
          <p:nvPr/>
        </p:nvPicPr>
        <p:blipFill>
          <a:blip r:embed="rId1"/>
          <a:stretch/>
        </p:blipFill>
        <p:spPr>
          <a:xfrm>
            <a:off x="0" y="0"/>
            <a:ext cx="9144000" cy="734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NEURONSKE MRE</a:t>
            </a:r>
            <a:r>
              <a:rPr b="1" lang="sr-Latn-CS" sz="7200" spc="-1" strike="noStrike">
                <a:solidFill>
                  <a:srgbClr val="ffffff"/>
                </a:solidFill>
                <a:latin typeface="Arial"/>
              </a:rPr>
              <a:t>ŽE</a:t>
            </a:r>
            <a:br>
              <a:rPr sz="7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2. pred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47960" y="5334120"/>
            <a:ext cx="4190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 Zoran Ševa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vara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prema podat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ir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ija dimenzionalnosti (P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peh rešavanja u potpunosti zavisi od podataka koji se koriste za trening mr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diti računa o teorijskoj opravdansti – reprezentativnosti korišćenih podataka za određeni problem. Ovo je vrlo specifično u zavisnosti od problema koji se reš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ning mrež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ređivanje optimalnih parametara mreže i algoritma za tr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j skrivenih slojeva i broj neurona u svakom sloju  (više ne znači bolje, cilj je imati što man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 i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amičko podešavanje paramet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cija parametara (sa probnim skup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ing i te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reniravanje i gener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m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ozn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dviđ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ksim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uronske mreže, fuzzy logika i genetski algoritm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zzy logika  &gt; struktura i seman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ski algoritmi &gt; odredjivanje i optimizacija paramet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irani tre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euronskih mrež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i ag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/reduce – clu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irani algoritmi – (npr. Batch mode backpropag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šeslojni perceptron i Back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vod: osnovni princip – supervise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taljno obraditi backpropagation algoritam, teorij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jasniti parametre i pokazati na primerima, problemat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Kriterijumi za zaustavljanje, parametri algoritma: learning rate,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cedura rešavanja problema pomoću NM – opisati teorijski korake 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incipe, na vežbama razraditi detaljno na primeru, - nacrtati algoritam i obja[njavati korak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oznavanje slika, rukopisa, predvidjanje na berzi na drugom ča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šeslojni percep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širenje osnovnog perceptrona – ima jedan ili viš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kriveni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lojeva neurona između ulaznog i izlazn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tke/diferencijabilne funkcije transfera u neuronima (tanh, sigm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isti Backpropagation algoritam za učenje koji se zasniva na LMS algorit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gu da rešavaju složen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l_multil_perceptron.png"/>
          <p:cNvPicPr/>
          <p:nvPr/>
        </p:nvPicPr>
        <p:blipFill>
          <a:blip r:embed="rId1"/>
          <a:stretch/>
        </p:blipFill>
        <p:spPr>
          <a:xfrm>
            <a:off x="4670280" y="1828800"/>
            <a:ext cx="3916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algori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ži za trening višeslojnog perceptrona – može da podešava težine u skrivenim sloje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stavlja supervizorni algoritam koji se zasniva na LMS algorit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šeslojni perceptron sa BP algoritmom predstavlja univerzalni aproksim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SUPERVIZORNO UČENJE </a:t>
            </a:r>
            <a:r>
              <a:rPr b="0" i="1" lang="sr-Latn-CS" sz="3600" spc="-1" strike="noStrike">
                <a:solidFill>
                  <a:srgbClr val="808080"/>
                </a:solidFill>
                <a:latin typeface="Arial"/>
              </a:rPr>
              <a:t>(SUPERVISED LEAR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822240" y="1712880"/>
            <a:ext cx="748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šti princip: minimizacija greške kroz iterativnu proced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9"/>
              <p:cNvSpPr txBox="1"/>
              <p:nvPr/>
            </p:nvSpPr>
            <p:spPr>
              <a:xfrm>
                <a:off x="609480" y="5486400"/>
                <a:ext cx="7848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μ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Oval 6"/>
          <p:cNvSpPr/>
          <p:nvPr/>
        </p:nvSpPr>
        <p:spPr>
          <a:xfrm>
            <a:off x="6781680" y="2666880"/>
            <a:ext cx="7621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8"/>
          <p:cNvCxnSpPr>
            <a:endCxn id="55" idx="1"/>
          </p:cNvCxnSpPr>
          <p:nvPr/>
        </p:nvCxnSpPr>
        <p:spPr>
          <a:xfrm>
            <a:off x="990720" y="4114800"/>
            <a:ext cx="137232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10"/>
          <p:cNvCxnSpPr>
            <a:endCxn id="53" idx="2"/>
          </p:cNvCxnSpPr>
          <p:nvPr/>
        </p:nvCxnSpPr>
        <p:spPr>
          <a:xfrm>
            <a:off x="1066320" y="2971800"/>
            <a:ext cx="571572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14"/>
          <p:cNvCxnSpPr>
            <a:stCxn id="55" idx="3"/>
            <a:endCxn id="53" idx="4"/>
          </p:cNvCxnSpPr>
          <p:nvPr/>
        </p:nvCxnSpPr>
        <p:spPr>
          <a:xfrm flipV="1">
            <a:off x="4571640" y="3351960"/>
            <a:ext cx="2591640" cy="801000"/>
          </a:xfrm>
          <a:prstGeom prst="bentConnector2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16"/>
          <p:cNvCxnSpPr>
            <a:stCxn id="53" idx="6"/>
          </p:cNvCxnSpPr>
          <p:nvPr/>
        </p:nvCxnSpPr>
        <p:spPr>
          <a:xfrm flipH="1">
            <a:off x="4190400" y="3009960"/>
            <a:ext cx="3353400" cy="2248560"/>
          </a:xfrm>
          <a:prstGeom prst="bentConnector3">
            <a:avLst>
              <a:gd name="adj1" fmla="val -6817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59" name="Straight Arrow Connector 28"/>
          <p:cNvCxnSpPr/>
          <p:nvPr/>
        </p:nvCxnSpPr>
        <p:spPr>
          <a:xfrm>
            <a:off x="-1371600" y="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0" name="Straight Arrow Connector 30"/>
          <p:cNvCxnSpPr/>
          <p:nvPr/>
        </p:nvCxnSpPr>
        <p:spPr>
          <a:xfrm flipH="1" flipV="1">
            <a:off x="2742840" y="3123360"/>
            <a:ext cx="1448640" cy="2134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" name="Rectangle 5"/>
          <p:cNvSpPr/>
          <p:nvPr/>
        </p:nvSpPr>
        <p:spPr>
          <a:xfrm>
            <a:off x="2362320" y="3429000"/>
            <a:ext cx="2209680" cy="1447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euronsk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106668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az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5"/>
          <p:cNvSpPr/>
          <p:nvPr/>
        </p:nvSpPr>
        <p:spPr>
          <a:xfrm>
            <a:off x="1066680" y="2514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eljeni izlaz 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7"/>
          <p:cNvSpPr/>
          <p:nvPr/>
        </p:nvSpPr>
        <p:spPr>
          <a:xfrm>
            <a:off x="4734720" y="365760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varni izlaz y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2"/>
          <p:cNvSpPr/>
          <p:nvPr/>
        </p:nvSpPr>
        <p:spPr>
          <a:xfrm>
            <a:off x="7626600" y="25909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4"/>
          <p:cNvSpPr/>
          <p:nvPr/>
        </p:nvSpPr>
        <p:spPr>
          <a:xfrm>
            <a:off x="4887000" y="472428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(x) = d(x) – y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MS U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685800" y="5410080"/>
                <a:ext cx="1760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685800" y="3733920"/>
                <a:ext cx="4114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με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Rectangle 6"/>
          <p:cNvSpPr/>
          <p:nvPr/>
        </p:nvSpPr>
        <p:spPr>
          <a:xfrm>
            <a:off x="685800" y="1338120"/>
            <a:ext cx="80010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MS pravilo se može izraziti kroz sledeć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1) greška izlaznog neurona z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ti uzorak iz skupa za tr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d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y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609480" y="42224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ukupna grešk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rež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 sve uzorke iz skupa za trenin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kriterijum za zaustavljanje treninga – mreža je naučila kada je greška svedena na prihvatljivu me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09480" y="31996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promena tež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veze proporcionalno gre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algori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jučna je formula za podešavanje skrivenih slojeva neur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bp.jpg"/>
          <p:cNvPicPr/>
          <p:nvPr/>
        </p:nvPicPr>
        <p:blipFill>
          <a:blip r:embed="rId1"/>
          <a:stretch/>
        </p:blipFill>
        <p:spPr>
          <a:xfrm>
            <a:off x="399960" y="2984400"/>
            <a:ext cx="834408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ri backpropagation algori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x it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arn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atch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algori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lokalnog minim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ustavljanje algoritma: broj iteracija, greška ispod definisanog min, smanjanje greške tokom treninga je suviše malo, ukupna greška za određeni test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Procedura rešavanje problema pomoću N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kupljanje i priprema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ening mr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stiranje mr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đivanje optimalnih parametara mreže i treninga eksperimentalnim putem (broj neurona, broj slojeva neurona, parametri algoritma za učenje, podaci za tr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9:16:49Z</dcterms:created>
  <dc:creator>zoran</dc:creator>
  <dc:description/>
  <dc:language>en-US</dc:language>
  <cp:lastModifiedBy>zoran</cp:lastModifiedBy>
  <dcterms:modified xsi:type="dcterms:W3CDTF">2012-12-25T11:22:17Z</dcterms:modified>
  <cp:revision>93</cp:revision>
  <dc:subject/>
  <dc:title>Slide 1</dc:title>
</cp:coreProperties>
</file>